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B458-8F3C-4294-AE76-AD36FADE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70AF-F104-4B52-A90F-EB5C33CC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C623-8662-4EC8-8EAC-9D83A762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6E03-E6BB-4256-849D-99F88BD7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7C8C-5AFE-4AD1-91EA-73F584A8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F1EE-5A9D-45F1-98A0-D3F007B5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E42C-6A56-4CB2-8B44-508DAEF1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589D-8333-42B3-B383-3BDAA6BB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E6A5-098C-487D-A22A-2337F6D4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1DCA-7BF6-454B-8FB3-8B5496E5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F231-95E3-4EAF-B8F5-4B359DDB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54C6-2D32-41B2-B494-A462B31C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491F-7F61-40E5-BB20-D4756E8E8B7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mazione DM61 – Generazione e stamp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lla password per i docenti 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76520" y="5562720"/>
            <a:ext cx="5486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a volta entrati nella pagina di Indi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 su “Iscrizioni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docenti%200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429680" cy="4576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V="1">
            <a:off x="2819520" y="5181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3733920"/>
            <a:ext cx="4038480" cy="304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3276720"/>
            <a:ext cx="266688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mazione DM61 – Generazione e stamp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lla password per i docenti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5257440"/>
            <a:ext cx="77724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erire il codice meccanografico del proprio Istit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erire la password ottenuta da InVALsi per UM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 su “ACCEDI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docenti%201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448400" cy="3859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2133720" y="2742840"/>
            <a:ext cx="22860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720" y="2438280"/>
            <a:ext cx="9144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docenti%202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467840" cy="4049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mazione DM61 – Generazione e stamp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lla password per i docenti [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5257440"/>
            <a:ext cx="77724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a volta entrati nella pagina corrispondente al proprio Istituto, selezionare dall’elenco il docente interess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 su “Selezion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581280" y="3048120"/>
            <a:ext cx="342900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2819520"/>
            <a:ext cx="91440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1447920"/>
            <a:ext cx="190512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743200" y="1676520"/>
            <a:ext cx="1066680" cy="35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docenti%203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486560" cy="41464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mazione DM61 – Generazione e stamp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lla password per i docenti [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5486400"/>
            <a:ext cx="77724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a volta entrati nella pagina personale del doc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 su “Stampa passwor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4495680"/>
            <a:ext cx="137160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410080" y="472392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docenti%204" descr=""/>
          <p:cNvPicPr/>
          <p:nvPr/>
        </p:nvPicPr>
        <p:blipFill>
          <a:blip r:embed="rId1"/>
          <a:stretch/>
        </p:blipFill>
        <p:spPr>
          <a:xfrm>
            <a:off x="2438280" y="1276200"/>
            <a:ext cx="3835440" cy="27622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mazione DM61 – Generazione e stamp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lla password per i docenti [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457164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Quando compare la finestra “Download del file”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lic su “Salva il file su disco e su “Ok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cegliere il percorso di archiviazione del documento Rtf che, come titolo preimpostato ha il nome del doc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tampare il documento [una lettera di Indire che contiene la password] e consegnarla al doc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2590920"/>
            <a:ext cx="1219320" cy="152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666880" y="274320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743200" y="403848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3581280"/>
            <a:ext cx="990360" cy="457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3T11:32:14Z</dcterms:created>
  <dc:creator>bullo</dc:creator>
  <dc:description/>
  <dc:language>en-US</dc:language>
  <cp:lastModifiedBy>bullo</cp:lastModifiedBy>
  <dcterms:modified xsi:type="dcterms:W3CDTF">2004-02-17T08:31:52Z</dcterms:modified>
  <cp:revision>13</cp:revision>
  <dc:subject/>
  <dc:title>Formazione DM61 – pwd per i docenti</dc:title>
</cp:coreProperties>
</file>